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562F-97CC-4222-8DF5-58DD6F69DF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0854-EDCE-4F60-94B2-B716649433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E9C6-627B-4FD7-9B8E-F18993BCD228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2960" y="4346640"/>
            <a:ext cx="503208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70320" cy="3202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0078-0803-4438-9963-9DF9AC9F541A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10552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ldImg"/>
          </p:nvPr>
        </p:nvSpPr>
        <p:spPr>
          <a:xfrm>
            <a:off x="1295280" y="797040"/>
            <a:ext cx="427536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9D61-0769-481D-9EE7-8B635D4432B4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0155-8892-4E8C-9B96-45B7A5860B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23920" y="6843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previous slide showed average values. This figure shows separate lines for the evolution of the utility score for mild, moderate and severe patient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EC2C-9582-4707-AC08-0BF679B8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7DCE-6C0B-4C42-9C76-824192B5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6174-21DB-43A0-BB97-258025A6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BD5E-9371-4F7B-A30B-7151485F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7E51-8AC0-4EF2-86A9-B72F4F1C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11D8-73A0-4E38-83F8-D38139BA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E861-0A45-430D-9B18-B29780EE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5F21-9DA4-440F-9B1F-B7137E5B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1300-A54D-479F-9F84-234C9EE8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90A5-5C47-439F-B807-787BAEAC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3BB2-8DB4-4FAA-BF78-667D3899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FFE2-0A83-461F-B9BF-31C31411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98C2-599E-43EC-9D21-58B6B06B570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томатологије</a:t>
            </a:r>
            <a:br>
              <a:rPr sz="2400"/>
            </a:b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11 ЗДРАВСТВЕНА ЕКОНОМИЈА </a:t>
            </a:r>
            <a:br>
              <a:rPr sz="2400"/>
            </a:b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ДРАВСТВЕНО ЕКОНОМСКА АНАЛИЗА ОДНОСА 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РОШКОВИ/КОРИСНОСТ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/UTILITY)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ц др Дејана Ружић Зечевић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6004080" y="6381720"/>
            <a:ext cx="27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љубазно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  <a:ea typeface="Arial"/>
              </a:rPr>
              <a:t>шћ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у Проф Annemans 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3"/>
          <p:cNvSpPr/>
          <p:nvPr/>
        </p:nvSpPr>
        <p:spPr>
          <a:xfrm flipH="1" flipV="1" rot="5400000">
            <a:off x="4999320" y="1079280"/>
            <a:ext cx="2193840" cy="3848040"/>
          </a:xfrm>
          <a:prstGeom prst="rtTriangle">
            <a:avLst/>
          </a:prstGeom>
          <a:solidFill>
            <a:srgbClr val="60ac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"/>
          <p:cNvSpPr/>
          <p:nvPr/>
        </p:nvSpPr>
        <p:spPr>
          <a:xfrm flipV="1">
            <a:off x="4087800" y="1889640"/>
            <a:ext cx="3897360" cy="2219400"/>
          </a:xfrm>
          <a:prstGeom prst="rtTriangle">
            <a:avLst/>
          </a:prstGeom>
          <a:solidFill>
            <a:srgbClr val="faa1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4084560" y="4156200"/>
            <a:ext cx="3902040" cy="1493640"/>
          </a:xfrm>
          <a:prstGeom prst="rect">
            <a:avLst/>
          </a:prstGeom>
          <a:solidFill>
            <a:srgbClr val="60ac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1327320" y="1892160"/>
            <a:ext cx="2743200" cy="3759480"/>
          </a:xfrm>
          <a:prstGeom prst="rect">
            <a:avLst/>
          </a:prstGeom>
          <a:solidFill>
            <a:srgbClr val="fa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оефицијент трошкови /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кориснос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- тумач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6"/>
          <p:cNvSpPr/>
          <p:nvPr/>
        </p:nvSpPr>
        <p:spPr>
          <a:xfrm rot="16200000">
            <a:off x="-887760" y="2133720"/>
            <a:ext cx="308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Укупни трошк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4133880" y="5718240"/>
            <a:ext cx="380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Здравствени ефекат интервенције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(QA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8"/>
          <p:cNvSpPr/>
          <p:nvPr/>
        </p:nvSpPr>
        <p:spPr>
          <a:xfrm>
            <a:off x="4062240" y="1900080"/>
            <a:ext cx="28800" cy="37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990720" y="2427120"/>
            <a:ext cx="2808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Садашња нега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стандардни трет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0"/>
          <p:cNvSpPr/>
          <p:nvPr/>
        </p:nvSpPr>
        <p:spPr>
          <a:xfrm flipH="1">
            <a:off x="1320840" y="1258920"/>
            <a:ext cx="1440" cy="4392720"/>
          </a:xfrm>
          <a:prstGeom prst="line">
            <a:avLst/>
          </a:prstGeom>
          <a:ln w="38160">
            <a:solidFill>
              <a:srgbClr val="eeece1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 flipV="1">
            <a:off x="1311120" y="5651280"/>
            <a:ext cx="7070760" cy="14040"/>
          </a:xfrm>
          <a:prstGeom prst="line">
            <a:avLst/>
          </a:prstGeom>
          <a:ln w="38160">
            <a:solidFill>
              <a:srgbClr val="eeece1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2"/>
          <p:cNvSpPr/>
          <p:nvPr/>
        </p:nvSpPr>
        <p:spPr>
          <a:xfrm flipV="1">
            <a:off x="2178000" y="5425560"/>
            <a:ext cx="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3"/>
          <p:cNvSpPr/>
          <p:nvPr/>
        </p:nvSpPr>
        <p:spPr>
          <a:xfrm flipV="1">
            <a:off x="3147840" y="5425560"/>
            <a:ext cx="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4"/>
          <p:cNvSpPr/>
          <p:nvPr/>
        </p:nvSpPr>
        <p:spPr>
          <a:xfrm flipV="1">
            <a:off x="4114800" y="5425560"/>
            <a:ext cx="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5"/>
          <p:cNvSpPr/>
          <p:nvPr/>
        </p:nvSpPr>
        <p:spPr>
          <a:xfrm flipV="1">
            <a:off x="5084640" y="5425560"/>
            <a:ext cx="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6"/>
          <p:cNvSpPr/>
          <p:nvPr/>
        </p:nvSpPr>
        <p:spPr>
          <a:xfrm flipV="1">
            <a:off x="6054840" y="5425560"/>
            <a:ext cx="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2918520" y="6103800"/>
            <a:ext cx="62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  <a:ea typeface="Arial"/>
              </a:rPr>
              <a:t>QALY 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Године живота прилагођене за квал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8"/>
          <p:cNvSpPr/>
          <p:nvPr/>
        </p:nvSpPr>
        <p:spPr>
          <a:xfrm>
            <a:off x="1335240" y="4140360"/>
            <a:ext cx="66592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9"/>
          <p:cNvGrpSpPr/>
          <p:nvPr/>
        </p:nvGrpSpPr>
        <p:grpSpPr>
          <a:xfrm>
            <a:off x="4102200" y="1193040"/>
            <a:ext cx="3933720" cy="2944080"/>
            <a:chOff x="4102200" y="1193040"/>
            <a:chExt cx="3933720" cy="2944080"/>
          </a:xfrm>
        </p:grpSpPr>
        <p:sp>
          <p:nvSpPr>
            <p:cNvPr id="290" name="Line 20"/>
            <p:cNvSpPr/>
            <p:nvPr/>
          </p:nvSpPr>
          <p:spPr>
            <a:xfrm flipV="1">
              <a:off x="4102200" y="1892160"/>
              <a:ext cx="3933720" cy="224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1"/>
            <p:cNvSpPr/>
            <p:nvPr/>
          </p:nvSpPr>
          <p:spPr>
            <a:xfrm rot="19738800">
              <a:off x="4216320" y="2072520"/>
              <a:ext cx="360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Друштвени праг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спремности за плаћањ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Line 22"/>
          <p:cNvSpPr/>
          <p:nvPr/>
        </p:nvSpPr>
        <p:spPr>
          <a:xfrm>
            <a:off x="3649680" y="3710160"/>
            <a:ext cx="417600" cy="417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4"/>
          <p:cNvSpPr/>
          <p:nvPr/>
        </p:nvSpPr>
        <p:spPr>
          <a:xfrm>
            <a:off x="5491080" y="4776840"/>
            <a:ext cx="360360" cy="287280"/>
          </a:xfrm>
          <a:prstGeom prst="ellipse">
            <a:avLst/>
          </a:prstGeom>
          <a:solidFill>
            <a:srgbClr val="81de7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5"/>
          <p:cNvSpPr/>
          <p:nvPr/>
        </p:nvSpPr>
        <p:spPr>
          <a:xfrm>
            <a:off x="3906720" y="4848120"/>
            <a:ext cx="360360" cy="287280"/>
          </a:xfrm>
          <a:prstGeom prst="ellipse">
            <a:avLst/>
          </a:prstGeom>
          <a:solidFill>
            <a:srgbClr val="81de7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6"/>
          <p:cNvSpPr/>
          <p:nvPr/>
        </p:nvSpPr>
        <p:spPr>
          <a:xfrm>
            <a:off x="5778360" y="2903400"/>
            <a:ext cx="360360" cy="287640"/>
          </a:xfrm>
          <a:prstGeom prst="ellipse">
            <a:avLst/>
          </a:prstGeom>
          <a:solidFill>
            <a:srgbClr val="ff99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+/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7"/>
          <p:cNvSpPr/>
          <p:nvPr/>
        </p:nvSpPr>
        <p:spPr>
          <a:xfrm>
            <a:off x="2898720" y="4919760"/>
            <a:ext cx="360360" cy="2872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8"/>
          <p:cNvSpPr/>
          <p:nvPr/>
        </p:nvSpPr>
        <p:spPr>
          <a:xfrm>
            <a:off x="5759640" y="484488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9"/>
          <p:cNvSpPr/>
          <p:nvPr/>
        </p:nvSpPr>
        <p:spPr>
          <a:xfrm>
            <a:off x="6407280" y="356400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0"/>
          <p:cNvSpPr/>
          <p:nvPr/>
        </p:nvSpPr>
        <p:spPr>
          <a:xfrm>
            <a:off x="4124520" y="528012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1"/>
          <p:cNvSpPr/>
          <p:nvPr/>
        </p:nvSpPr>
        <p:spPr>
          <a:xfrm>
            <a:off x="4535640" y="174780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2"/>
          <p:cNvSpPr/>
          <p:nvPr/>
        </p:nvSpPr>
        <p:spPr>
          <a:xfrm>
            <a:off x="3043080" y="2343240"/>
            <a:ext cx="360360" cy="2872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3"/>
          <p:cNvSpPr/>
          <p:nvPr/>
        </p:nvSpPr>
        <p:spPr>
          <a:xfrm>
            <a:off x="4676760" y="2179800"/>
            <a:ext cx="360360" cy="2872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4"/>
          <p:cNvSpPr/>
          <p:nvPr/>
        </p:nvSpPr>
        <p:spPr>
          <a:xfrm>
            <a:off x="5996160" y="3695760"/>
            <a:ext cx="360360" cy="287280"/>
          </a:xfrm>
          <a:prstGeom prst="ellipse">
            <a:avLst/>
          </a:prstGeom>
          <a:solidFill>
            <a:srgbClr val="81de7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BF73-4C0C-4D0D-98D2-96B7348A15A2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388360" cy="1079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ПРОБЛЕМ: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ГДЕ ЈЕ ПРАГ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51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сторијски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50,000$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по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 QALY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-iju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Годишњи трошак извођенја дијализе по пацијен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Јавни „прагови“ републичких фондова у неким земља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O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руто национални доходак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 глави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Belg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= €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9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692360" y="3068640"/>
          <a:ext cx="6010200" cy="2925720"/>
        </p:xfrm>
        <a:graphic>
          <a:graphicData uri="http://schemas.openxmlformats.org/drawingml/2006/table">
            <a:tbl>
              <a:tblPr/>
              <a:tblGrid>
                <a:gridCol w="1847880"/>
                <a:gridCol w="1008000"/>
                <a:gridCol w="1751040"/>
                <a:gridCol w="1403280"/>
              </a:tblGrid>
              <a:tr h="5788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ем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лу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г изражен у локалној вал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г изражен у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00-1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600-73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we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B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stra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S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00-76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200-47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0-1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700-68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Netherlan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w Zea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Z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Rectangle 214"/>
          <p:cNvSpPr/>
          <p:nvPr/>
        </p:nvSpPr>
        <p:spPr>
          <a:xfrm>
            <a:off x="336960" y="6644160"/>
            <a:ext cx="328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* Conversion to Euro based on exch rates august 1, 2007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лазне претпостав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0040" y="1071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ксиом рационалног менаџмента у здравству би био да је задатак постојања система здравствених установа да , са расположивим ресурсима, у реалном времену , грађанима пруже највећи могући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КВАНТИТЕТ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и/или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КВАЛИТЕТ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ЖИВО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нцепт квалитета живота се појавио кад је препозната потреба да се успех било које терапијске интервенције сагледа из угла болесника (његовог осећаја задовољства и благостања , олакшања или сагласности са сопственим системом вредности – наиме знамо да културни миље заједнице доста утиче на “стандард” онога што се сматра квалитетним животом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ако се мери квалитет живот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ри се помоћу инструмената, који се могу поделити на два начи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 начину мерењ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ОФИ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НДЕК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 специфичности за одређену боле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ГЕНЕРИ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ПЕЦИФ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296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војства студије трошкови / корисно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42920" y="856800"/>
            <a:ext cx="885816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Код ових испитивањ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исходи од интереса различитих медицинских процедура могу бити слични по обиму али неједнаки по другим особинама тако да је немогуће поредити ефекте једнозначн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Основ поређења је допринос дате процедуре порасту квалитета живота пацијен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Мерење квалитета живота се препушта оцени пацијента а на основу оригиналне Фланаганове Скале квалитета живо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Максимално могући квалитет има придружен износ 1 а смрт минимални тј. 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Рачунамо трошкове према “времену квалитетног живота” -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године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ивота кориговане за квалитет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(Quality Adjusted Life Years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се добијају када се број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екстра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година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ивота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добијених терапијом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помно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и са квалитетом сваке године (изр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еним бројем између 0 и 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5862600" y="6245280"/>
            <a:ext cx="2824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љубазно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  <a:ea typeface="Arial"/>
              </a:rPr>
              <a:t>шћ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у Проф Annemans 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" y="174600"/>
            <a:ext cx="876132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QALY =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Године квалитетног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ивота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3"/>
          <p:cNvSpPr/>
          <p:nvPr/>
        </p:nvSpPr>
        <p:spPr>
          <a:xfrm>
            <a:off x="1676520" y="162864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1676520" y="5210280"/>
            <a:ext cx="6172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1676520" y="2009880"/>
            <a:ext cx="609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7258320" y="5286240"/>
            <a:ext cx="18219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Р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219320" y="1781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1143000" y="49053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1676520" y="3533760"/>
            <a:ext cx="4047840" cy="1676520"/>
          </a:xfrm>
          <a:custGeom>
            <a:avLst/>
            <a:gdLst>
              <a:gd name="textAreaLeft" fmla="*/ 0 w 4047840"/>
              <a:gd name="textAreaRight" fmla="*/ 4048200 w 40478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976" h="1056">
                <a:moveTo>
                  <a:pt x="0" y="0"/>
                </a:moveTo>
                <a:lnTo>
                  <a:pt x="2976" y="0"/>
                </a:lnTo>
                <a:lnTo>
                  <a:pt x="2976" y="1056"/>
                </a:lnTo>
              </a:path>
            </a:pathLst>
          </a:custGeom>
          <a:noFill/>
          <a:ln w="5724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5510520" y="528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941400" y="33321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407160" y="1238400"/>
            <a:ext cx="48531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ИНДЕKS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иво „корисност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548520" y="410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4"/>
          <p:cNvGrpSpPr/>
          <p:nvPr/>
        </p:nvGrpSpPr>
        <p:grpSpPr>
          <a:xfrm>
            <a:off x="941400" y="2781360"/>
            <a:ext cx="4854600" cy="2395440"/>
            <a:chOff x="941400" y="2781360"/>
            <a:chExt cx="4854600" cy="2395440"/>
          </a:xfrm>
        </p:grpSpPr>
        <p:sp>
          <p:nvSpPr>
            <p:cNvPr id="109" name="Freeform 15"/>
            <p:cNvSpPr/>
            <p:nvPr/>
          </p:nvSpPr>
          <p:spPr>
            <a:xfrm>
              <a:off x="1692360" y="3068640"/>
              <a:ext cx="4103640" cy="2108160"/>
            </a:xfrm>
            <a:custGeom>
              <a:avLst/>
              <a:gdLst>
                <a:gd name="textAreaLeft" fmla="*/ 0 w 4103640"/>
                <a:gd name="textAreaRight" fmla="*/ 4104000 w 4103640"/>
                <a:gd name="textAreaTop" fmla="*/ 0 h 2108160"/>
                <a:gd name="textAreaBottom" fmla="*/ 2108520 h 2108160"/>
              </a:gdLst>
              <a:ahLst/>
              <a:rect l="textAreaLeft" t="textAreaTop" r="textAreaRight" b="textAreaBottom"/>
              <a:pathLst>
                <a:path w="2976" h="1056">
                  <a:moveTo>
                    <a:pt x="0" y="0"/>
                  </a:moveTo>
                  <a:lnTo>
                    <a:pt x="2976" y="0"/>
                  </a:lnTo>
                  <a:lnTo>
                    <a:pt x="2976" y="1056"/>
                  </a:lnTo>
                </a:path>
              </a:pathLst>
            </a:custGeom>
            <a:noFill/>
            <a:ln w="572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6"/>
            <p:cNvSpPr/>
            <p:nvPr/>
          </p:nvSpPr>
          <p:spPr>
            <a:xfrm>
              <a:off x="941400" y="278136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7"/>
            <p:cNvSpPr/>
            <p:nvPr/>
          </p:nvSpPr>
          <p:spPr>
            <a:xfrm>
              <a:off x="3323520" y="307512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+0.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8"/>
          <p:cNvGrpSpPr/>
          <p:nvPr/>
        </p:nvGrpSpPr>
        <p:grpSpPr>
          <a:xfrm>
            <a:off x="1692360" y="3500280"/>
            <a:ext cx="5392080" cy="2236320"/>
            <a:chOff x="1692360" y="3500280"/>
            <a:chExt cx="5392080" cy="2236320"/>
          </a:xfrm>
        </p:grpSpPr>
        <p:sp>
          <p:nvSpPr>
            <p:cNvPr id="113" name="Freeform 19"/>
            <p:cNvSpPr/>
            <p:nvPr/>
          </p:nvSpPr>
          <p:spPr>
            <a:xfrm>
              <a:off x="1692360" y="3500280"/>
              <a:ext cx="5184720" cy="1676520"/>
            </a:xfrm>
            <a:custGeom>
              <a:avLst/>
              <a:gdLst>
                <a:gd name="textAreaLeft" fmla="*/ 0 w 5184720"/>
                <a:gd name="textAreaRight" fmla="*/ 5185080 w 5184720"/>
                <a:gd name="textAreaTop" fmla="*/ 0 h 1676520"/>
                <a:gd name="textAreaBottom" fmla="*/ 1676880 h 1676520"/>
              </a:gdLst>
              <a:ahLst/>
              <a:rect l="textAreaLeft" t="textAreaTop" r="textAreaRight" b="textAreaBottom"/>
              <a:pathLst>
                <a:path w="2976" h="1056">
                  <a:moveTo>
                    <a:pt x="0" y="0"/>
                  </a:moveTo>
                  <a:lnTo>
                    <a:pt x="2976" y="0"/>
                  </a:lnTo>
                  <a:lnTo>
                    <a:pt x="2976" y="1056"/>
                  </a:lnTo>
                </a:path>
              </a:pathLst>
            </a:custGeom>
            <a:noFill/>
            <a:ln w="57240">
              <a:solidFill>
                <a:srgbClr val="eeec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0"/>
            <p:cNvSpPr/>
            <p:nvPr/>
          </p:nvSpPr>
          <p:spPr>
            <a:xfrm>
              <a:off x="6734520" y="5276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1"/>
            <p:cNvSpPr/>
            <p:nvPr/>
          </p:nvSpPr>
          <p:spPr>
            <a:xfrm>
              <a:off x="5964840" y="419256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+0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2"/>
          <p:cNvGrpSpPr/>
          <p:nvPr/>
        </p:nvGrpSpPr>
        <p:grpSpPr>
          <a:xfrm>
            <a:off x="1692360" y="2997360"/>
            <a:ext cx="5256000" cy="2179440"/>
            <a:chOff x="1692360" y="2997360"/>
            <a:chExt cx="5256000" cy="2179440"/>
          </a:xfrm>
        </p:grpSpPr>
        <p:sp>
          <p:nvSpPr>
            <p:cNvPr id="117" name="Freeform 23"/>
            <p:cNvSpPr/>
            <p:nvPr/>
          </p:nvSpPr>
          <p:spPr>
            <a:xfrm>
              <a:off x="1692360" y="2997360"/>
              <a:ext cx="5256000" cy="2179440"/>
            </a:xfrm>
            <a:custGeom>
              <a:avLst/>
              <a:gdLst>
                <a:gd name="textAreaLeft" fmla="*/ 0 w 5256000"/>
                <a:gd name="textAreaRight" fmla="*/ 5256360 w 5256000"/>
                <a:gd name="textAreaTop" fmla="*/ 0 h 2179440"/>
                <a:gd name="textAreaBottom" fmla="*/ 2179800 h 2179440"/>
              </a:gdLst>
              <a:ahLst/>
              <a:rect l="textAreaLeft" t="textAreaTop" r="textAreaRight" b="textAreaBottom"/>
              <a:pathLst>
                <a:path w="2976" h="1056">
                  <a:moveTo>
                    <a:pt x="0" y="0"/>
                  </a:moveTo>
                  <a:lnTo>
                    <a:pt x="2976" y="0"/>
                  </a:lnTo>
                  <a:lnTo>
                    <a:pt x="2976" y="1056"/>
                  </a:lnTo>
                </a:path>
              </a:pathLst>
            </a:custGeom>
            <a:noFill/>
            <a:ln w="572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4"/>
            <p:cNvSpPr/>
            <p:nvPr/>
          </p:nvSpPr>
          <p:spPr>
            <a:xfrm>
              <a:off x="6083280" y="3046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ако измерити корисност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VAS: В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уа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о</a:t>
            </a: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 Анал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 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а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SG: Стандар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о</a:t>
            </a: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цк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Calibri"/>
              </a:rPr>
              <a:t>TTO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Трговањ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реме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EQ 5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SF 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eft-Right Arrow 3"/>
          <p:cNvSpPr/>
          <p:nvPr/>
        </p:nvSpPr>
        <p:spPr>
          <a:xfrm>
            <a:off x="2857680" y="4929120"/>
            <a:ext cx="5857560" cy="357120"/>
          </a:xfrm>
          <a:prstGeom prst="left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eft-Right Arrow 4"/>
          <p:cNvSpPr/>
          <p:nvPr/>
        </p:nvSpPr>
        <p:spPr>
          <a:xfrm>
            <a:off x="2857680" y="5786280"/>
            <a:ext cx="3571560" cy="357480"/>
          </a:xfrm>
          <a:prstGeom prst="leftRightArrow">
            <a:avLst>
              <a:gd name="adj1" fmla="val 50000"/>
              <a:gd name="adj2" fmla="val 4995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Bent Arrow 5"/>
          <p:cNvSpPr/>
          <p:nvPr/>
        </p:nvSpPr>
        <p:spPr>
          <a:xfrm rot="5400000">
            <a:off x="5286240" y="3000240"/>
            <a:ext cx="1430640" cy="1500480"/>
          </a:xfrm>
          <a:custGeom>
            <a:avLst/>
            <a:gdLst/>
            <a:ahLst/>
            <a:rect l="l" t="t" r="r" b="b"/>
            <a:pathLst>
              <a:path w="1430338" h="1500188">
                <a:moveTo>
                  <a:pt x="0" y="1500188"/>
                </a:moveTo>
                <a:lnTo>
                  <a:pt x="0" y="804565"/>
                </a:lnTo>
                <a:cubicBezTo>
                  <a:pt x="0" y="458960"/>
                  <a:pt x="280168" y="178792"/>
                  <a:pt x="625773" y="178792"/>
                </a:cubicBezTo>
                <a:lnTo>
                  <a:pt x="1072754" y="178792"/>
                </a:lnTo>
                <a:lnTo>
                  <a:pt x="1072754" y="0"/>
                </a:lnTo>
                <a:lnTo>
                  <a:pt x="1430338" y="357585"/>
                </a:lnTo>
                <a:lnTo>
                  <a:pt x="1072754" y="715169"/>
                </a:lnTo>
                <a:lnTo>
                  <a:pt x="1072754" y="536377"/>
                </a:lnTo>
                <a:lnTo>
                  <a:pt x="625773" y="536377"/>
                </a:lnTo>
                <a:cubicBezTo>
                  <a:pt x="477657" y="536377"/>
                  <a:pt x="357585" y="656449"/>
                  <a:pt x="357585" y="804565"/>
                </a:cubicBezTo>
                <a:lnTo>
                  <a:pt x="357585" y="1500188"/>
                </a:lnTo>
                <a:lnTo>
                  <a:pt x="0" y="1500188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5001840" y="4500720"/>
            <a:ext cx="37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година квалитета здравља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“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3289320" y="5429160"/>
            <a:ext cx="43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година у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авршеном здрављу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” (= “1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5029200" y="61722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љубазно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ш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у Проф Annemans 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3517-1C4C-4C5E-A955-B99707EAD664}" type="slidenum">
              <a:rPr b="0" lang="nl-NL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Smal verticaal"/>
          <p:cNvPicPr/>
          <p:nvPr/>
        </p:nvPicPr>
        <p:blipFill>
          <a:blip r:embed="rId1"/>
          <a:srcRect l="31105" t="24625" r="30079" b="14387"/>
          <a:stretch/>
        </p:blipFill>
        <p:spPr>
          <a:xfrm>
            <a:off x="3071880" y="-7920"/>
            <a:ext cx="5821200" cy="68612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7573680" y="226044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573680" y="31431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535880" y="45007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573680" y="52164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7573680" y="60739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7625160" y="1901880"/>
            <a:ext cx="95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13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Smal verticaal"/>
          <p:cNvPicPr/>
          <p:nvPr/>
        </p:nvPicPr>
        <p:blipFill>
          <a:blip r:embed="rId2"/>
          <a:srcRect l="55750" t="26372" r="30079" b="8333"/>
          <a:stretch/>
        </p:blipFill>
        <p:spPr>
          <a:xfrm>
            <a:off x="0" y="219240"/>
            <a:ext cx="184644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Calibri"/>
              </a:rPr>
              <a:t>EQ-5D инд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с</a:t>
            </a:r>
            <a:r>
              <a:rPr b="0" lang="fr-BE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у Великој Британиј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мер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Болест</a:t>
            </a:r>
            <a:r>
              <a:rPr b="1" lang="fr-B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„X“ (саркоидоз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уно здравље</a:t>
            </a:r>
            <a:r>
              <a:rPr b="1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BE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нстанта </a:t>
            </a:r>
            <a:r>
              <a:rPr b="0" lang="fr-BE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одељује се за било који поремећај</a:t>
            </a:r>
            <a:r>
              <a:rPr b="0" lang="fr-BE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-0.08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кретљивост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-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амопомоћ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-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обичајене активности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-0.03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ол / Нелагода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-0.1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Анксиозност / Депресивност</a:t>
            </a:r>
            <a:r>
              <a:rPr b="0" lang="fr-BE" sz="24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0" lang="fr-BE" sz="24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0" lang="fr-BE" sz="24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0" lang="fr-BE" sz="2400" spc="-1" strike="noStrike" u="sng">
                <a:solidFill>
                  <a:srgbClr val="000000"/>
                </a:solidFill>
                <a:uFillTx/>
                <a:latin typeface="Calibri"/>
              </a:rPr>
              <a:t>-0.23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умарна вредност индекса за озбиљну саркоидоз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BE" sz="2400" spc="-1" strike="noStrike">
                <a:solidFill>
                  <a:srgbClr val="000000"/>
                </a:solidFill>
                <a:latin typeface="Calibri"/>
              </a:rPr>
              <a:t>0.255</a:t>
            </a:r>
            <a:r>
              <a:rPr b="1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валитет живота мерен путем EQ-5D код депресивних пацијената у примарној зашти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182600" y="1413000"/>
            <a:ext cx="712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декси корисности према озбиљности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35"/>
          <p:cNvGrpSpPr/>
          <p:nvPr/>
        </p:nvGrpSpPr>
        <p:grpSpPr>
          <a:xfrm>
            <a:off x="274680" y="1989000"/>
            <a:ext cx="8545320" cy="4585680"/>
            <a:chOff x="274680" y="1989000"/>
            <a:chExt cx="8545320" cy="4585680"/>
          </a:xfrm>
        </p:grpSpPr>
        <p:sp>
          <p:nvSpPr>
            <p:cNvPr id="141" name="Text Box 5"/>
            <p:cNvSpPr/>
            <p:nvPr/>
          </p:nvSpPr>
          <p:spPr>
            <a:xfrm>
              <a:off x="6732720" y="2584440"/>
              <a:ext cx="11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Благ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134"/>
            <p:cNvGrpSpPr/>
            <p:nvPr/>
          </p:nvGrpSpPr>
          <p:grpSpPr>
            <a:xfrm>
              <a:off x="274680" y="2013120"/>
              <a:ext cx="6850080" cy="4561560"/>
              <a:chOff x="274680" y="2013120"/>
              <a:chExt cx="6850080" cy="4561560"/>
            </a:xfrm>
          </p:grpSpPr>
          <p:grpSp>
            <p:nvGrpSpPr>
              <p:cNvPr id="143" name="Group 7"/>
              <p:cNvGrpSpPr/>
              <p:nvPr/>
            </p:nvGrpSpPr>
            <p:grpSpPr>
              <a:xfrm>
                <a:off x="1547640" y="3746520"/>
                <a:ext cx="108000" cy="661680"/>
                <a:chOff x="1547640" y="3746520"/>
                <a:chExt cx="108000" cy="661680"/>
              </a:xfrm>
            </p:grpSpPr>
            <p:sp>
              <p:nvSpPr>
                <p:cNvPr id="144" name="Line 8"/>
                <p:cNvSpPr/>
                <p:nvPr/>
              </p:nvSpPr>
              <p:spPr>
                <a:xfrm>
                  <a:off x="1600200" y="3746520"/>
                  <a:ext cx="0" cy="661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9"/>
                <p:cNvSpPr/>
                <p:nvPr/>
              </p:nvSpPr>
              <p:spPr>
                <a:xfrm>
                  <a:off x="1547640" y="440820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10"/>
                <p:cNvSpPr/>
                <p:nvPr/>
              </p:nvSpPr>
              <p:spPr>
                <a:xfrm>
                  <a:off x="1547640" y="374652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11"/>
              <p:cNvGrpSpPr/>
              <p:nvPr/>
            </p:nvGrpSpPr>
            <p:grpSpPr>
              <a:xfrm>
                <a:off x="2548080" y="3189240"/>
                <a:ext cx="107640" cy="661680"/>
                <a:chOff x="2548080" y="3189240"/>
                <a:chExt cx="107640" cy="661680"/>
              </a:xfrm>
            </p:grpSpPr>
            <p:sp>
              <p:nvSpPr>
                <p:cNvPr id="148" name="Line 12"/>
                <p:cNvSpPr/>
                <p:nvPr/>
              </p:nvSpPr>
              <p:spPr>
                <a:xfrm>
                  <a:off x="2600280" y="3189240"/>
                  <a:ext cx="0" cy="661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13"/>
                <p:cNvSpPr/>
                <p:nvPr/>
              </p:nvSpPr>
              <p:spPr>
                <a:xfrm>
                  <a:off x="2548080" y="3850920"/>
                  <a:ext cx="107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14"/>
                <p:cNvSpPr/>
                <p:nvPr/>
              </p:nvSpPr>
              <p:spPr>
                <a:xfrm>
                  <a:off x="2548080" y="3189240"/>
                  <a:ext cx="107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15"/>
              <p:cNvGrpSpPr/>
              <p:nvPr/>
            </p:nvGrpSpPr>
            <p:grpSpPr>
              <a:xfrm>
                <a:off x="3556080" y="2897280"/>
                <a:ext cx="108000" cy="872280"/>
                <a:chOff x="3556080" y="2897280"/>
                <a:chExt cx="108000" cy="872280"/>
              </a:xfrm>
            </p:grpSpPr>
            <p:sp>
              <p:nvSpPr>
                <p:cNvPr id="152" name="Line 16"/>
                <p:cNvSpPr/>
                <p:nvPr/>
              </p:nvSpPr>
              <p:spPr>
                <a:xfrm>
                  <a:off x="3608640" y="2897280"/>
                  <a:ext cx="0" cy="87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17"/>
                <p:cNvSpPr/>
                <p:nvPr/>
              </p:nvSpPr>
              <p:spPr>
                <a:xfrm>
                  <a:off x="3556080" y="376956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18"/>
                <p:cNvSpPr/>
                <p:nvPr/>
              </p:nvSpPr>
              <p:spPr>
                <a:xfrm>
                  <a:off x="3556080" y="289728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19"/>
              <p:cNvGrpSpPr/>
              <p:nvPr/>
            </p:nvGrpSpPr>
            <p:grpSpPr>
              <a:xfrm>
                <a:off x="4564080" y="2700360"/>
                <a:ext cx="108000" cy="820440"/>
                <a:chOff x="4564080" y="2700360"/>
                <a:chExt cx="108000" cy="820440"/>
              </a:xfrm>
            </p:grpSpPr>
            <p:sp>
              <p:nvSpPr>
                <p:cNvPr id="156" name="Line 20"/>
                <p:cNvSpPr/>
                <p:nvPr/>
              </p:nvSpPr>
              <p:spPr>
                <a:xfrm>
                  <a:off x="4616640" y="2700360"/>
                  <a:ext cx="0" cy="820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21"/>
                <p:cNvSpPr/>
                <p:nvPr/>
              </p:nvSpPr>
              <p:spPr>
                <a:xfrm>
                  <a:off x="4564080" y="352080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22"/>
                <p:cNvSpPr/>
                <p:nvPr/>
              </p:nvSpPr>
              <p:spPr>
                <a:xfrm>
                  <a:off x="4564080" y="270036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23"/>
              <p:cNvGrpSpPr/>
              <p:nvPr/>
            </p:nvGrpSpPr>
            <p:grpSpPr>
              <a:xfrm>
                <a:off x="5568840" y="2449440"/>
                <a:ext cx="108000" cy="1611720"/>
                <a:chOff x="5568840" y="2449440"/>
                <a:chExt cx="108000" cy="1611720"/>
              </a:xfrm>
            </p:grpSpPr>
            <p:sp>
              <p:nvSpPr>
                <p:cNvPr id="160" name="Line 24"/>
                <p:cNvSpPr/>
                <p:nvPr/>
              </p:nvSpPr>
              <p:spPr>
                <a:xfrm>
                  <a:off x="5621400" y="2449440"/>
                  <a:ext cx="0" cy="1611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25"/>
                <p:cNvSpPr/>
                <p:nvPr/>
              </p:nvSpPr>
              <p:spPr>
                <a:xfrm>
                  <a:off x="5568840" y="406116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26"/>
                <p:cNvSpPr/>
                <p:nvPr/>
              </p:nvSpPr>
              <p:spPr>
                <a:xfrm>
                  <a:off x="5568840" y="244944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Line 27"/>
              <p:cNvSpPr/>
              <p:nvPr/>
            </p:nvSpPr>
            <p:spPr>
              <a:xfrm>
                <a:off x="6607080" y="2143080"/>
                <a:ext cx="0" cy="58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" name="Group 28"/>
              <p:cNvGrpSpPr/>
              <p:nvPr/>
            </p:nvGrpSpPr>
            <p:grpSpPr>
              <a:xfrm>
                <a:off x="5553000" y="3179880"/>
                <a:ext cx="107640" cy="1319760"/>
                <a:chOff x="5553000" y="3179880"/>
                <a:chExt cx="107640" cy="1319760"/>
              </a:xfrm>
            </p:grpSpPr>
            <p:sp>
              <p:nvSpPr>
                <p:cNvPr id="165" name="Line 29"/>
                <p:cNvSpPr/>
                <p:nvPr/>
              </p:nvSpPr>
              <p:spPr>
                <a:xfrm>
                  <a:off x="5553000" y="3179880"/>
                  <a:ext cx="107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30"/>
                <p:cNvSpPr/>
                <p:nvPr/>
              </p:nvSpPr>
              <p:spPr>
                <a:xfrm>
                  <a:off x="5613120" y="3179880"/>
                  <a:ext cx="0" cy="131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Line 31"/>
                <p:cNvSpPr/>
                <p:nvPr/>
              </p:nvSpPr>
              <p:spPr>
                <a:xfrm>
                  <a:off x="5553000" y="4499640"/>
                  <a:ext cx="107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Group 32"/>
              <p:cNvGrpSpPr/>
              <p:nvPr/>
            </p:nvGrpSpPr>
            <p:grpSpPr>
              <a:xfrm>
                <a:off x="6561000" y="2833560"/>
                <a:ext cx="107640" cy="1596240"/>
                <a:chOff x="6561000" y="2833560"/>
                <a:chExt cx="107640" cy="1596240"/>
              </a:xfrm>
            </p:grpSpPr>
            <p:sp>
              <p:nvSpPr>
                <p:cNvPr id="169" name="Line 33"/>
                <p:cNvSpPr/>
                <p:nvPr/>
              </p:nvSpPr>
              <p:spPr>
                <a:xfrm>
                  <a:off x="6561000" y="2833560"/>
                  <a:ext cx="107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Line 34"/>
                <p:cNvSpPr/>
                <p:nvPr/>
              </p:nvSpPr>
              <p:spPr>
                <a:xfrm>
                  <a:off x="6621120" y="2833560"/>
                  <a:ext cx="0" cy="1596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Line 35"/>
                <p:cNvSpPr/>
                <p:nvPr/>
              </p:nvSpPr>
              <p:spPr>
                <a:xfrm>
                  <a:off x="6561000" y="4429800"/>
                  <a:ext cx="107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36"/>
              <p:cNvGrpSpPr/>
              <p:nvPr/>
            </p:nvGrpSpPr>
            <p:grpSpPr>
              <a:xfrm>
                <a:off x="1547640" y="4681440"/>
                <a:ext cx="108000" cy="433440"/>
                <a:chOff x="1547640" y="4681440"/>
                <a:chExt cx="108000" cy="433440"/>
              </a:xfrm>
            </p:grpSpPr>
            <p:sp>
              <p:nvSpPr>
                <p:cNvPr id="173" name="Line 37"/>
                <p:cNvSpPr/>
                <p:nvPr/>
              </p:nvSpPr>
              <p:spPr>
                <a:xfrm>
                  <a:off x="1600200" y="4681440"/>
                  <a:ext cx="0" cy="43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38"/>
                <p:cNvSpPr/>
                <p:nvPr/>
              </p:nvSpPr>
              <p:spPr>
                <a:xfrm>
                  <a:off x="1547640" y="511488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39"/>
                <p:cNvSpPr/>
                <p:nvPr/>
              </p:nvSpPr>
              <p:spPr>
                <a:xfrm>
                  <a:off x="1547640" y="468144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40"/>
              <p:cNvGrpSpPr/>
              <p:nvPr/>
            </p:nvGrpSpPr>
            <p:grpSpPr>
              <a:xfrm>
                <a:off x="2548080" y="3924360"/>
                <a:ext cx="107640" cy="431640"/>
                <a:chOff x="2548080" y="3924360"/>
                <a:chExt cx="107640" cy="431640"/>
              </a:xfrm>
            </p:grpSpPr>
            <p:sp>
              <p:nvSpPr>
                <p:cNvPr id="177" name="Line 41"/>
                <p:cNvSpPr/>
                <p:nvPr/>
              </p:nvSpPr>
              <p:spPr>
                <a:xfrm>
                  <a:off x="2548080" y="3924360"/>
                  <a:ext cx="107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42"/>
                <p:cNvSpPr/>
                <p:nvPr/>
              </p:nvSpPr>
              <p:spPr>
                <a:xfrm>
                  <a:off x="2608200" y="3924360"/>
                  <a:ext cx="0" cy="431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43"/>
                <p:cNvSpPr/>
                <p:nvPr/>
              </p:nvSpPr>
              <p:spPr>
                <a:xfrm>
                  <a:off x="2548080" y="4356000"/>
                  <a:ext cx="107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44"/>
              <p:cNvGrpSpPr/>
              <p:nvPr/>
            </p:nvGrpSpPr>
            <p:grpSpPr>
              <a:xfrm>
                <a:off x="3546360" y="3419640"/>
                <a:ext cx="107640" cy="501120"/>
                <a:chOff x="3546360" y="3419640"/>
                <a:chExt cx="107640" cy="501120"/>
              </a:xfrm>
            </p:grpSpPr>
            <p:sp>
              <p:nvSpPr>
                <p:cNvPr id="181" name="Line 45"/>
                <p:cNvSpPr/>
                <p:nvPr/>
              </p:nvSpPr>
              <p:spPr>
                <a:xfrm>
                  <a:off x="3546360" y="3419640"/>
                  <a:ext cx="107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46"/>
                <p:cNvSpPr/>
                <p:nvPr/>
              </p:nvSpPr>
              <p:spPr>
                <a:xfrm>
                  <a:off x="3606480" y="3419640"/>
                  <a:ext cx="0" cy="501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47"/>
                <p:cNvSpPr/>
                <p:nvPr/>
              </p:nvSpPr>
              <p:spPr>
                <a:xfrm>
                  <a:off x="3546360" y="3920760"/>
                  <a:ext cx="107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Group 48"/>
              <p:cNvGrpSpPr/>
              <p:nvPr/>
            </p:nvGrpSpPr>
            <p:grpSpPr>
              <a:xfrm>
                <a:off x="4552920" y="3087720"/>
                <a:ext cx="107640" cy="651960"/>
                <a:chOff x="4552920" y="3087720"/>
                <a:chExt cx="107640" cy="651960"/>
              </a:xfrm>
            </p:grpSpPr>
            <p:sp>
              <p:nvSpPr>
                <p:cNvPr id="185" name="Line 49"/>
                <p:cNvSpPr/>
                <p:nvPr/>
              </p:nvSpPr>
              <p:spPr>
                <a:xfrm>
                  <a:off x="4552920" y="3087720"/>
                  <a:ext cx="107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50"/>
                <p:cNvSpPr/>
                <p:nvPr/>
              </p:nvSpPr>
              <p:spPr>
                <a:xfrm>
                  <a:off x="4613040" y="3087720"/>
                  <a:ext cx="0" cy="651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51"/>
                <p:cNvSpPr/>
                <p:nvPr/>
              </p:nvSpPr>
              <p:spPr>
                <a:xfrm>
                  <a:off x="4552920" y="3739680"/>
                  <a:ext cx="107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Group 52"/>
              <p:cNvGrpSpPr/>
              <p:nvPr/>
            </p:nvGrpSpPr>
            <p:grpSpPr>
              <a:xfrm>
                <a:off x="1557360" y="5680080"/>
                <a:ext cx="108000" cy="288720"/>
                <a:chOff x="1557360" y="5680080"/>
                <a:chExt cx="108000" cy="288720"/>
              </a:xfrm>
            </p:grpSpPr>
            <p:sp>
              <p:nvSpPr>
                <p:cNvPr id="189" name="Line 53"/>
                <p:cNvSpPr/>
                <p:nvPr/>
              </p:nvSpPr>
              <p:spPr>
                <a:xfrm>
                  <a:off x="1609560" y="5680080"/>
                  <a:ext cx="0" cy="28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54"/>
                <p:cNvSpPr/>
                <p:nvPr/>
              </p:nvSpPr>
              <p:spPr>
                <a:xfrm>
                  <a:off x="1557360" y="568008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Group 55"/>
              <p:cNvGrpSpPr/>
              <p:nvPr/>
            </p:nvGrpSpPr>
            <p:grpSpPr>
              <a:xfrm>
                <a:off x="2544840" y="4365720"/>
                <a:ext cx="108000" cy="1027080"/>
                <a:chOff x="2544840" y="4365720"/>
                <a:chExt cx="108000" cy="1027080"/>
              </a:xfrm>
            </p:grpSpPr>
            <p:sp>
              <p:nvSpPr>
                <p:cNvPr id="192" name="Line 56"/>
                <p:cNvSpPr/>
                <p:nvPr/>
              </p:nvSpPr>
              <p:spPr>
                <a:xfrm>
                  <a:off x="2603520" y="4365720"/>
                  <a:ext cx="0" cy="1027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57"/>
                <p:cNvSpPr/>
                <p:nvPr/>
              </p:nvSpPr>
              <p:spPr>
                <a:xfrm>
                  <a:off x="2544840" y="539280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58"/>
                <p:cNvSpPr/>
                <p:nvPr/>
              </p:nvSpPr>
              <p:spPr>
                <a:xfrm>
                  <a:off x="2544840" y="436572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59"/>
              <p:cNvGrpSpPr/>
              <p:nvPr/>
            </p:nvGrpSpPr>
            <p:grpSpPr>
              <a:xfrm>
                <a:off x="3544920" y="3592440"/>
                <a:ext cx="108000" cy="1089000"/>
                <a:chOff x="3544920" y="3592440"/>
                <a:chExt cx="108000" cy="1089000"/>
              </a:xfrm>
            </p:grpSpPr>
            <p:sp>
              <p:nvSpPr>
                <p:cNvPr id="196" name="Line 60"/>
                <p:cNvSpPr/>
                <p:nvPr/>
              </p:nvSpPr>
              <p:spPr>
                <a:xfrm>
                  <a:off x="3602160" y="3592440"/>
                  <a:ext cx="0" cy="1089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61"/>
                <p:cNvSpPr/>
                <p:nvPr/>
              </p:nvSpPr>
              <p:spPr>
                <a:xfrm>
                  <a:off x="3544920" y="468144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62"/>
                <p:cNvSpPr/>
                <p:nvPr/>
              </p:nvSpPr>
              <p:spPr>
                <a:xfrm>
                  <a:off x="3544920" y="359244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63"/>
              <p:cNvGrpSpPr/>
              <p:nvPr/>
            </p:nvGrpSpPr>
            <p:grpSpPr>
              <a:xfrm>
                <a:off x="4551480" y="2987640"/>
                <a:ext cx="108000" cy="1941480"/>
                <a:chOff x="4551480" y="2987640"/>
                <a:chExt cx="108000" cy="1941480"/>
              </a:xfrm>
            </p:grpSpPr>
            <p:sp>
              <p:nvSpPr>
                <p:cNvPr id="200" name="Line 64"/>
                <p:cNvSpPr/>
                <p:nvPr/>
              </p:nvSpPr>
              <p:spPr>
                <a:xfrm>
                  <a:off x="4605480" y="2987640"/>
                  <a:ext cx="0" cy="194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Line 65"/>
                <p:cNvSpPr/>
                <p:nvPr/>
              </p:nvSpPr>
              <p:spPr>
                <a:xfrm>
                  <a:off x="4551480" y="298764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66"/>
                <p:cNvSpPr/>
                <p:nvPr/>
              </p:nvSpPr>
              <p:spPr>
                <a:xfrm>
                  <a:off x="4551480" y="492912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Group 67"/>
              <p:cNvGrpSpPr/>
              <p:nvPr/>
            </p:nvGrpSpPr>
            <p:grpSpPr>
              <a:xfrm>
                <a:off x="5553000" y="3193920"/>
                <a:ext cx="108000" cy="2455920"/>
                <a:chOff x="5553000" y="3193920"/>
                <a:chExt cx="108000" cy="2455920"/>
              </a:xfrm>
            </p:grpSpPr>
            <p:sp>
              <p:nvSpPr>
                <p:cNvPr id="204" name="Line 68"/>
                <p:cNvSpPr/>
                <p:nvPr/>
              </p:nvSpPr>
              <p:spPr>
                <a:xfrm>
                  <a:off x="5608800" y="3193920"/>
                  <a:ext cx="0" cy="2455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69"/>
                <p:cNvSpPr/>
                <p:nvPr/>
              </p:nvSpPr>
              <p:spPr>
                <a:xfrm>
                  <a:off x="5553000" y="319392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70"/>
                <p:cNvSpPr/>
                <p:nvPr/>
              </p:nvSpPr>
              <p:spPr>
                <a:xfrm>
                  <a:off x="5553000" y="564984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Group 71"/>
              <p:cNvGrpSpPr/>
              <p:nvPr/>
            </p:nvGrpSpPr>
            <p:grpSpPr>
              <a:xfrm>
                <a:off x="6559560" y="2871720"/>
                <a:ext cx="108000" cy="3092400"/>
                <a:chOff x="6559560" y="2871720"/>
                <a:chExt cx="108000" cy="3092400"/>
              </a:xfrm>
            </p:grpSpPr>
            <p:sp>
              <p:nvSpPr>
                <p:cNvPr id="208" name="Line 72"/>
                <p:cNvSpPr/>
                <p:nvPr/>
              </p:nvSpPr>
              <p:spPr>
                <a:xfrm>
                  <a:off x="6616800" y="2871720"/>
                  <a:ext cx="0" cy="3092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Line 73"/>
                <p:cNvSpPr/>
                <p:nvPr/>
              </p:nvSpPr>
              <p:spPr>
                <a:xfrm>
                  <a:off x="6559560" y="287172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Group 74"/>
              <p:cNvGrpSpPr/>
              <p:nvPr/>
            </p:nvGrpSpPr>
            <p:grpSpPr>
              <a:xfrm>
                <a:off x="274680" y="2013120"/>
                <a:ext cx="6850080" cy="4561560"/>
                <a:chOff x="274680" y="2013120"/>
                <a:chExt cx="6850080" cy="4561560"/>
              </a:xfrm>
            </p:grpSpPr>
            <p:grpSp>
              <p:nvGrpSpPr>
                <p:cNvPr id="211" name="Group 75"/>
                <p:cNvGrpSpPr/>
                <p:nvPr/>
              </p:nvGrpSpPr>
              <p:grpSpPr>
                <a:xfrm>
                  <a:off x="1036800" y="2181240"/>
                  <a:ext cx="6087960" cy="3815640"/>
                  <a:chOff x="1036800" y="2181240"/>
                  <a:chExt cx="6087960" cy="3815640"/>
                </a:xfrm>
              </p:grpSpPr>
              <p:sp>
                <p:nvSpPr>
                  <p:cNvPr id="212" name="Line 76"/>
                  <p:cNvSpPr/>
                  <p:nvPr/>
                </p:nvSpPr>
                <p:spPr>
                  <a:xfrm>
                    <a:off x="1096920" y="5925600"/>
                    <a:ext cx="6027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77"/>
                  <p:cNvSpPr/>
                  <p:nvPr/>
                </p:nvSpPr>
                <p:spPr>
                  <a:xfrm>
                    <a:off x="1106640" y="592560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78"/>
                  <p:cNvSpPr/>
                  <p:nvPr/>
                </p:nvSpPr>
                <p:spPr>
                  <a:xfrm>
                    <a:off x="2106720" y="592560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79"/>
                  <p:cNvSpPr/>
                  <p:nvPr/>
                </p:nvSpPr>
                <p:spPr>
                  <a:xfrm>
                    <a:off x="3108240" y="592560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80"/>
                  <p:cNvSpPr/>
                  <p:nvPr/>
                </p:nvSpPr>
                <p:spPr>
                  <a:xfrm>
                    <a:off x="4110120" y="592560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81"/>
                  <p:cNvSpPr/>
                  <p:nvPr/>
                </p:nvSpPr>
                <p:spPr>
                  <a:xfrm>
                    <a:off x="5111640" y="592560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82"/>
                  <p:cNvSpPr/>
                  <p:nvPr/>
                </p:nvSpPr>
                <p:spPr>
                  <a:xfrm>
                    <a:off x="6113520" y="592560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83"/>
                  <p:cNvSpPr/>
                  <p:nvPr/>
                </p:nvSpPr>
                <p:spPr>
                  <a:xfrm>
                    <a:off x="7115040" y="592560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84"/>
                  <p:cNvSpPr/>
                  <p:nvPr/>
                </p:nvSpPr>
                <p:spPr>
                  <a:xfrm>
                    <a:off x="1106640" y="2181240"/>
                    <a:ext cx="0" cy="3744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85"/>
                  <p:cNvSpPr/>
                  <p:nvPr/>
                </p:nvSpPr>
                <p:spPr>
                  <a:xfrm>
                    <a:off x="1036800" y="2181240"/>
                    <a:ext cx="712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86"/>
                  <p:cNvSpPr/>
                  <p:nvPr/>
                </p:nvSpPr>
                <p:spPr>
                  <a:xfrm>
                    <a:off x="1036800" y="2804760"/>
                    <a:ext cx="712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87"/>
                  <p:cNvSpPr/>
                  <p:nvPr/>
                </p:nvSpPr>
                <p:spPr>
                  <a:xfrm>
                    <a:off x="1036800" y="3428640"/>
                    <a:ext cx="712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88"/>
                  <p:cNvSpPr/>
                  <p:nvPr/>
                </p:nvSpPr>
                <p:spPr>
                  <a:xfrm>
                    <a:off x="1036800" y="4052520"/>
                    <a:ext cx="712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89"/>
                  <p:cNvSpPr/>
                  <p:nvPr/>
                </p:nvSpPr>
                <p:spPr>
                  <a:xfrm>
                    <a:off x="1036800" y="4676400"/>
                    <a:ext cx="712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90"/>
                  <p:cNvSpPr/>
                  <p:nvPr/>
                </p:nvSpPr>
                <p:spPr>
                  <a:xfrm>
                    <a:off x="1036800" y="5300280"/>
                    <a:ext cx="712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91"/>
                  <p:cNvSpPr/>
                  <p:nvPr/>
                </p:nvSpPr>
                <p:spPr>
                  <a:xfrm>
                    <a:off x="1036800" y="5925600"/>
                    <a:ext cx="712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8" name="Text Box 92"/>
                <p:cNvSpPr/>
                <p:nvPr/>
              </p:nvSpPr>
              <p:spPr>
                <a:xfrm>
                  <a:off x="1360440" y="5945040"/>
                  <a:ext cx="504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85920" indent="-385920"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93"/>
                <p:cNvSpPr/>
                <p:nvPr/>
              </p:nvSpPr>
              <p:spPr>
                <a:xfrm>
                  <a:off x="2360520" y="5945040"/>
                  <a:ext cx="505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85920" indent="-385920"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Text Box 94"/>
                <p:cNvSpPr/>
                <p:nvPr/>
              </p:nvSpPr>
              <p:spPr>
                <a:xfrm>
                  <a:off x="3362400" y="5945040"/>
                  <a:ext cx="504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85920" indent="-385920"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Text Box 95"/>
                <p:cNvSpPr/>
                <p:nvPr/>
              </p:nvSpPr>
              <p:spPr>
                <a:xfrm>
                  <a:off x="4363920" y="5945040"/>
                  <a:ext cx="505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85920" indent="-385920"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Text Box 96"/>
                <p:cNvSpPr/>
                <p:nvPr/>
              </p:nvSpPr>
              <p:spPr>
                <a:xfrm>
                  <a:off x="5365800" y="5945040"/>
                  <a:ext cx="504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85920" indent="-385920"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Text Box 97"/>
                <p:cNvSpPr/>
                <p:nvPr/>
              </p:nvSpPr>
              <p:spPr>
                <a:xfrm>
                  <a:off x="6367320" y="5945040"/>
                  <a:ext cx="505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85920" indent="-385920"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98"/>
                <p:cNvSpPr/>
                <p:nvPr/>
              </p:nvSpPr>
              <p:spPr>
                <a:xfrm>
                  <a:off x="539640" y="2013120"/>
                  <a:ext cx="505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85920" indent="-385920" algn="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.9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Text Box 99"/>
                <p:cNvSpPr/>
                <p:nvPr/>
              </p:nvSpPr>
              <p:spPr>
                <a:xfrm>
                  <a:off x="539640" y="2635200"/>
                  <a:ext cx="505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85920" indent="-385920" algn="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.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Text Box 100"/>
                <p:cNvSpPr/>
                <p:nvPr/>
              </p:nvSpPr>
              <p:spPr>
                <a:xfrm>
                  <a:off x="539640" y="3259080"/>
                  <a:ext cx="505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85920" indent="-385920" algn="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.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Text Box 101"/>
                <p:cNvSpPr/>
                <p:nvPr/>
              </p:nvSpPr>
              <p:spPr>
                <a:xfrm>
                  <a:off x="539640" y="3881520"/>
                  <a:ext cx="505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85920" indent="-385920" algn="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.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Text Box 102"/>
                <p:cNvSpPr/>
                <p:nvPr/>
              </p:nvSpPr>
              <p:spPr>
                <a:xfrm>
                  <a:off x="539640" y="4505400"/>
                  <a:ext cx="505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85920" indent="-385920" algn="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.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Text Box 103"/>
                <p:cNvSpPr/>
                <p:nvPr/>
              </p:nvSpPr>
              <p:spPr>
                <a:xfrm>
                  <a:off x="539640" y="5127480"/>
                  <a:ext cx="505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85920" indent="-385920" algn="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.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Text Box 104"/>
                <p:cNvSpPr/>
                <p:nvPr/>
              </p:nvSpPr>
              <p:spPr>
                <a:xfrm>
                  <a:off x="539640" y="5751360"/>
                  <a:ext cx="505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85920" indent="-385920" algn="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.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Text Box 105"/>
                <p:cNvSpPr/>
                <p:nvPr/>
              </p:nvSpPr>
              <p:spPr>
                <a:xfrm>
                  <a:off x="2652840" y="6237360"/>
                  <a:ext cx="2954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85920" indent="-385920"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Посете лекару - контроле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Text Box 106"/>
                <p:cNvSpPr/>
                <p:nvPr/>
              </p:nvSpPr>
              <p:spPr>
                <a:xfrm rot="16200000">
                  <a:off x="-784800" y="3508920"/>
                  <a:ext cx="2457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85920" indent="-385920"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Индекс кориснотси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Group 107"/>
              <p:cNvGrpSpPr/>
              <p:nvPr/>
            </p:nvGrpSpPr>
            <p:grpSpPr>
              <a:xfrm>
                <a:off x="1538280" y="3357720"/>
                <a:ext cx="5130720" cy="1594800"/>
                <a:chOff x="1538280" y="3357720"/>
                <a:chExt cx="5130720" cy="1594800"/>
              </a:xfrm>
            </p:grpSpPr>
            <p:sp>
              <p:nvSpPr>
                <p:cNvPr id="244" name="Oval 108"/>
                <p:cNvSpPr/>
                <p:nvPr/>
              </p:nvSpPr>
              <p:spPr>
                <a:xfrm>
                  <a:off x="1538280" y="4844880"/>
                  <a:ext cx="108000" cy="107640"/>
                </a:xfrm>
                <a:prstGeom prst="ellipse">
                  <a:avLst/>
                </a:prstGeom>
                <a:solidFill>
                  <a:srgbClr val="800080"/>
                </a:solidFill>
                <a:ln w="64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Oval 109"/>
                <p:cNvSpPr/>
                <p:nvPr/>
              </p:nvSpPr>
              <p:spPr>
                <a:xfrm>
                  <a:off x="2549520" y="4068720"/>
                  <a:ext cx="108000" cy="107640"/>
                </a:xfrm>
                <a:prstGeom prst="ellipse">
                  <a:avLst/>
                </a:prstGeom>
                <a:solidFill>
                  <a:srgbClr val="800080"/>
                </a:solidFill>
                <a:ln w="64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Oval 110"/>
                <p:cNvSpPr/>
                <p:nvPr/>
              </p:nvSpPr>
              <p:spPr>
                <a:xfrm>
                  <a:off x="3548160" y="3620880"/>
                  <a:ext cx="108000" cy="107640"/>
                </a:xfrm>
                <a:prstGeom prst="ellipse">
                  <a:avLst/>
                </a:prstGeom>
                <a:solidFill>
                  <a:srgbClr val="800080"/>
                </a:solidFill>
                <a:ln w="64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Oval 111"/>
                <p:cNvSpPr/>
                <p:nvPr/>
              </p:nvSpPr>
              <p:spPr>
                <a:xfrm>
                  <a:off x="4556160" y="3357720"/>
                  <a:ext cx="108000" cy="107640"/>
                </a:xfrm>
                <a:prstGeom prst="ellipse">
                  <a:avLst/>
                </a:prstGeom>
                <a:solidFill>
                  <a:srgbClr val="800080"/>
                </a:solidFill>
                <a:ln w="64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Oval 112"/>
                <p:cNvSpPr/>
                <p:nvPr/>
              </p:nvSpPr>
              <p:spPr>
                <a:xfrm>
                  <a:off x="5553000" y="3779640"/>
                  <a:ext cx="108000" cy="107640"/>
                </a:xfrm>
                <a:prstGeom prst="ellipse">
                  <a:avLst/>
                </a:prstGeom>
                <a:solidFill>
                  <a:srgbClr val="800080"/>
                </a:solidFill>
                <a:ln w="64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Oval 113"/>
                <p:cNvSpPr/>
                <p:nvPr/>
              </p:nvSpPr>
              <p:spPr>
                <a:xfrm>
                  <a:off x="6561000" y="3467160"/>
                  <a:ext cx="108000" cy="107280"/>
                </a:xfrm>
                <a:prstGeom prst="ellipse">
                  <a:avLst/>
                </a:prstGeom>
                <a:solidFill>
                  <a:srgbClr val="800080"/>
                </a:solidFill>
                <a:ln w="64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114"/>
                <p:cNvSpPr/>
                <p:nvPr/>
              </p:nvSpPr>
              <p:spPr>
                <a:xfrm>
                  <a:off x="1590840" y="3408120"/>
                  <a:ext cx="5029200" cy="1485720"/>
                </a:xfrm>
                <a:custGeom>
                  <a:avLst/>
                  <a:gdLst>
                    <a:gd name="textAreaLeft" fmla="*/ 0 w 5029200"/>
                    <a:gd name="textAreaRight" fmla="*/ 5029560 w 5029200"/>
                    <a:gd name="textAreaTop" fmla="*/ 0 h 1485720"/>
                    <a:gd name="textAreaBottom" fmla="*/ 1486080 h 1485720"/>
                  </a:gdLst>
                  <a:ahLst/>
                  <a:rect l="textAreaLeft" t="textAreaTop" r="textAreaRight" b="textAreaBottom"/>
                  <a:pathLst>
                    <a:path w="3168" h="936">
                      <a:moveTo>
                        <a:pt x="0" y="936"/>
                      </a:moveTo>
                      <a:lnTo>
                        <a:pt x="637" y="448"/>
                      </a:lnTo>
                      <a:lnTo>
                        <a:pt x="1263" y="166"/>
                      </a:lnTo>
                      <a:lnTo>
                        <a:pt x="1900" y="0"/>
                      </a:lnTo>
                      <a:lnTo>
                        <a:pt x="2532" y="271"/>
                      </a:lnTo>
                      <a:lnTo>
                        <a:pt x="3168" y="72"/>
                      </a:lnTo>
                    </a:path>
                  </a:pathLst>
                </a:custGeom>
                <a:noFill/>
                <a:ln w="28440">
                  <a:solidFill>
                    <a:srgbClr val="8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Group 115"/>
              <p:cNvGrpSpPr/>
              <p:nvPr/>
            </p:nvGrpSpPr>
            <p:grpSpPr>
              <a:xfrm>
                <a:off x="1538280" y="2679840"/>
                <a:ext cx="5130720" cy="1418760"/>
                <a:chOff x="1538280" y="2679840"/>
                <a:chExt cx="5130720" cy="1418760"/>
              </a:xfrm>
            </p:grpSpPr>
            <p:sp>
              <p:nvSpPr>
                <p:cNvPr id="252" name="Oval 116"/>
                <p:cNvSpPr/>
                <p:nvPr/>
              </p:nvSpPr>
              <p:spPr>
                <a:xfrm>
                  <a:off x="1538280" y="3990960"/>
                  <a:ext cx="108000" cy="107640"/>
                </a:xfrm>
                <a:prstGeom prst="ellipse">
                  <a:avLst/>
                </a:prstGeom>
                <a:solidFill>
                  <a:srgbClr val="4f81bd"/>
                </a:solidFill>
                <a:ln w="648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Oval 117"/>
                <p:cNvSpPr/>
                <p:nvPr/>
              </p:nvSpPr>
              <p:spPr>
                <a:xfrm>
                  <a:off x="2549520" y="3413160"/>
                  <a:ext cx="108000" cy="107640"/>
                </a:xfrm>
                <a:prstGeom prst="ellipse">
                  <a:avLst/>
                </a:prstGeom>
                <a:solidFill>
                  <a:srgbClr val="4f81bd"/>
                </a:solidFill>
                <a:ln w="648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18"/>
                <p:cNvSpPr/>
                <p:nvPr/>
              </p:nvSpPr>
              <p:spPr>
                <a:xfrm>
                  <a:off x="3548160" y="3244680"/>
                  <a:ext cx="108000" cy="107640"/>
                </a:xfrm>
                <a:prstGeom prst="ellipse">
                  <a:avLst/>
                </a:prstGeom>
                <a:solidFill>
                  <a:srgbClr val="4f81bd"/>
                </a:solidFill>
                <a:ln w="648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19"/>
                <p:cNvSpPr/>
                <p:nvPr/>
              </p:nvSpPr>
              <p:spPr>
                <a:xfrm>
                  <a:off x="4556160" y="3033720"/>
                  <a:ext cx="108000" cy="107640"/>
                </a:xfrm>
                <a:prstGeom prst="ellipse">
                  <a:avLst/>
                </a:prstGeom>
                <a:solidFill>
                  <a:srgbClr val="4f81bd"/>
                </a:solidFill>
                <a:ln w="648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120"/>
                <p:cNvSpPr/>
                <p:nvPr/>
              </p:nvSpPr>
              <p:spPr>
                <a:xfrm>
                  <a:off x="5553000" y="2897280"/>
                  <a:ext cx="108000" cy="107280"/>
                </a:xfrm>
                <a:prstGeom prst="ellipse">
                  <a:avLst/>
                </a:prstGeom>
                <a:solidFill>
                  <a:srgbClr val="4f81bd"/>
                </a:solidFill>
                <a:ln w="648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Oval 121"/>
                <p:cNvSpPr/>
                <p:nvPr/>
              </p:nvSpPr>
              <p:spPr>
                <a:xfrm>
                  <a:off x="6561000" y="2679840"/>
                  <a:ext cx="108000" cy="107640"/>
                </a:xfrm>
                <a:prstGeom prst="ellipse">
                  <a:avLst/>
                </a:prstGeom>
                <a:solidFill>
                  <a:srgbClr val="4f81bd"/>
                </a:solidFill>
                <a:ln w="648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122"/>
                <p:cNvSpPr/>
                <p:nvPr/>
              </p:nvSpPr>
              <p:spPr>
                <a:xfrm>
                  <a:off x="1590840" y="2730600"/>
                  <a:ext cx="5029200" cy="1309320"/>
                </a:xfrm>
                <a:custGeom>
                  <a:avLst/>
                  <a:gdLst>
                    <a:gd name="textAreaLeft" fmla="*/ 0 w 5029200"/>
                    <a:gd name="textAreaRight" fmla="*/ 5029560 w 5029200"/>
                    <a:gd name="textAreaTop" fmla="*/ 0 h 1309320"/>
                    <a:gd name="textAreaBottom" fmla="*/ 1309680 h 1309320"/>
                  </a:gdLst>
                  <a:ahLst/>
                  <a:rect l="textAreaLeft" t="textAreaTop" r="textAreaRight" b="textAreaBottom"/>
                  <a:pathLst>
                    <a:path w="3168" h="825">
                      <a:moveTo>
                        <a:pt x="0" y="825"/>
                      </a:moveTo>
                      <a:lnTo>
                        <a:pt x="637" y="460"/>
                      </a:lnTo>
                      <a:lnTo>
                        <a:pt x="1269" y="360"/>
                      </a:lnTo>
                      <a:lnTo>
                        <a:pt x="1906" y="222"/>
                      </a:lnTo>
                      <a:lnTo>
                        <a:pt x="2526" y="144"/>
                      </a:lnTo>
                      <a:lnTo>
                        <a:pt x="3168" y="0"/>
                      </a:lnTo>
                    </a:path>
                  </a:pathLst>
                </a:custGeom>
                <a:noFill/>
                <a:ln w="2844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133"/>
              <p:cNvGrpSpPr/>
              <p:nvPr/>
            </p:nvGrpSpPr>
            <p:grpSpPr>
              <a:xfrm>
                <a:off x="1714680" y="3817800"/>
                <a:ext cx="4954320" cy="2157480"/>
                <a:chOff x="1714680" y="3817800"/>
                <a:chExt cx="4954320" cy="2157480"/>
              </a:xfrm>
            </p:grpSpPr>
            <p:sp>
              <p:nvSpPr>
                <p:cNvPr id="260" name="Oval 124"/>
                <p:cNvSpPr/>
                <p:nvPr/>
              </p:nvSpPr>
              <p:spPr>
                <a:xfrm>
                  <a:off x="2548080" y="4797360"/>
                  <a:ext cx="107640" cy="108000"/>
                </a:xfrm>
                <a:prstGeom prst="ellipse">
                  <a:avLst/>
                </a:prstGeom>
                <a:solidFill>
                  <a:srgbClr val="eeece1"/>
                </a:solidFill>
                <a:ln w="1260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125"/>
                <p:cNvSpPr/>
                <p:nvPr/>
              </p:nvSpPr>
              <p:spPr>
                <a:xfrm>
                  <a:off x="3546360" y="4049640"/>
                  <a:ext cx="108000" cy="108000"/>
                </a:xfrm>
                <a:prstGeom prst="ellipse">
                  <a:avLst/>
                </a:prstGeom>
                <a:solidFill>
                  <a:srgbClr val="eeece1"/>
                </a:solidFill>
                <a:ln w="1260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126"/>
                <p:cNvSpPr/>
                <p:nvPr/>
              </p:nvSpPr>
              <p:spPr>
                <a:xfrm>
                  <a:off x="4554360" y="3817800"/>
                  <a:ext cx="108000" cy="108000"/>
                </a:xfrm>
                <a:prstGeom prst="ellipse">
                  <a:avLst/>
                </a:prstGeom>
                <a:solidFill>
                  <a:srgbClr val="eeece1"/>
                </a:solidFill>
                <a:ln w="1260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127"/>
                <p:cNvSpPr/>
                <p:nvPr/>
              </p:nvSpPr>
              <p:spPr>
                <a:xfrm>
                  <a:off x="5553000" y="4221000"/>
                  <a:ext cx="108000" cy="108000"/>
                </a:xfrm>
                <a:prstGeom prst="ellipse">
                  <a:avLst/>
                </a:prstGeom>
                <a:solidFill>
                  <a:srgbClr val="eeece1"/>
                </a:solidFill>
                <a:ln w="1260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128"/>
                <p:cNvSpPr/>
                <p:nvPr/>
              </p:nvSpPr>
              <p:spPr>
                <a:xfrm>
                  <a:off x="6561000" y="4708440"/>
                  <a:ext cx="108000" cy="108000"/>
                </a:xfrm>
                <a:prstGeom prst="ellipse">
                  <a:avLst/>
                </a:prstGeom>
                <a:solidFill>
                  <a:srgbClr val="eeece1"/>
                </a:solidFill>
                <a:ln w="1260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129"/>
                <p:cNvSpPr/>
                <p:nvPr/>
              </p:nvSpPr>
              <p:spPr>
                <a:xfrm>
                  <a:off x="1714680" y="3873600"/>
                  <a:ext cx="4905360" cy="2101680"/>
                </a:xfrm>
                <a:custGeom>
                  <a:avLst/>
                  <a:gdLst>
                    <a:gd name="textAreaLeft" fmla="*/ 0 w 4905360"/>
                    <a:gd name="textAreaRight" fmla="*/ 4905720 w 4905360"/>
                    <a:gd name="textAreaTop" fmla="*/ 0 h 2101680"/>
                    <a:gd name="textAreaBottom" fmla="*/ 2102040 h 2101680"/>
                  </a:gdLst>
                  <a:ahLst/>
                  <a:rect l="textAreaLeft" t="textAreaTop" r="textAreaRight" b="textAreaBottom"/>
                  <a:pathLst>
                    <a:path w="3090" h="1324">
                      <a:moveTo>
                        <a:pt x="0" y="1324"/>
                      </a:moveTo>
                      <a:lnTo>
                        <a:pt x="559" y="615"/>
                      </a:lnTo>
                      <a:lnTo>
                        <a:pt x="1185" y="144"/>
                      </a:lnTo>
                      <a:lnTo>
                        <a:pt x="1828" y="0"/>
                      </a:lnTo>
                      <a:lnTo>
                        <a:pt x="2465" y="255"/>
                      </a:lnTo>
                      <a:lnTo>
                        <a:pt x="3090" y="560"/>
                      </a:lnTo>
                    </a:path>
                  </a:pathLst>
                </a:custGeom>
                <a:noFill/>
                <a:ln w="28440">
                  <a:solidFill>
                    <a:srgbClr val="eeece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6" name="Text Box 130"/>
            <p:cNvSpPr/>
            <p:nvPr/>
          </p:nvSpPr>
          <p:spPr>
            <a:xfrm>
              <a:off x="6732720" y="3357720"/>
              <a:ext cx="11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мере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31"/>
            <p:cNvSpPr/>
            <p:nvPr/>
          </p:nvSpPr>
          <p:spPr>
            <a:xfrm>
              <a:off x="6732720" y="4589640"/>
              <a:ext cx="11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ш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32"/>
            <p:cNvSpPr/>
            <p:nvPr/>
          </p:nvSpPr>
          <p:spPr>
            <a:xfrm>
              <a:off x="6732720" y="1989000"/>
              <a:ext cx="20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збиљност боле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Rectangle 133"/>
          <p:cNvSpPr/>
          <p:nvPr/>
        </p:nvSpPr>
        <p:spPr>
          <a:xfrm>
            <a:off x="4214880" y="6550200"/>
            <a:ext cx="49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bocki P, et al. Value Health. 2007 Mar-Apr;10(2):153-6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8:00:30Z</dcterms:created>
  <dc:creator>Arhangel</dc:creator>
  <dc:description/>
  <dc:language>en-US</dc:language>
  <cp:lastModifiedBy>HERACLEA</cp:lastModifiedBy>
  <dcterms:modified xsi:type="dcterms:W3CDTF">2019-03-02T21:46:28Z</dcterms:modified>
  <cp:revision>43</cp:revision>
  <dc:subject/>
  <dc:title>Farmakoepidemiološka istraživanja  Analiza troškovi - korisnost Dizajn i izvođenje mikroekonomske studije</dc:title>
</cp:coreProperties>
</file>